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E619-F330-4E55-91D4-9A5528EAD5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– medžiagos, 2 – gamybos išlaidos, 3 – darbo užmokestis, 4 – Sodra, 5 – honorarai, 6 – transportas, 7 – ryšių paslaugos, 8 – fotografijos išlaidos, 9 – kitos išla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– medžiagos, 2 – gamybos išlaidos, 3 – darbo užmokestis, 4 – Sodra, 5 – honorarai, 6 – transportas, 7 – ryšių paslaugos, 8 – fotografijos išlaidos, 9 – kitos išla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– medžiagos, 2 – gamybos išlaidos, 3 – darbo užmokestis, 4 – Sodra, 5 – honorarai, 6 – transportas, 7 – ryšių paslaugos, 8 – fotografijos išlaidos, 9 – kitos išla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085-A2DD-41A8-B94C-785B4204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904-1C28-4BD9-8FED-6588C144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D16-5703-4CB9-870A-3B6A076C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735-0519-459E-8678-A9127BE0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242-52F5-4A01-9E78-F4C8422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AB4-E92D-43E0-A895-ED15973E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5FF-501F-4BE6-977E-BE09AFC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F53-5E40-4696-8173-E9B11E84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86F-A330-415D-BBCB-D48FC521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8BB-77ED-4A3A-B07F-AC971711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A3F-03AF-44C2-B4B8-7D239B05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7FF-8FB5-4836-BBAF-48541F3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65CA-A985-468F-9D74-29A4C3A4D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alyvavimas SRTRF konkursuo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nternetinės progra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55640" y="270828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076720" y="2997360"/>
          <a:ext cx="29703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997360"/>
                    <a:ext cx="29703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Vaikų ir jaunimo programų skl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ų sąmata (I progra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47640" y="1989000"/>
          <a:ext cx="609624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609624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os pagal sąnaudas (II progra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33600" y="2006640"/>
          <a:ext cx="60768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006640"/>
                    <a:ext cx="6076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os pagal sąnaudas audiovizualinėms program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200016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0016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os pagal sąnaudas spaudos program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paudos programų finansavimas pagal priorite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TV/radijo programų finansavimas pagal priorite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nterneto prgramų finansavimas pagal priorite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Finansavimas pagal prioritetus (tūkst.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Kultūros ir švietimo 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ų žiniasklaidoje finansav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84464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Televizijos programos (program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Televizijos programų finansavimas (tūkst. 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19890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Mėnesinių žurnalų skl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avaitraščių lėšos per metus tūkst. 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avaitraščių skl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Mėnesinių žurnalų lėšos per metus tūkst. 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ų finansavimas pagal informavimo priemonių pobūd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Fondo remia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 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os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 pagal informacijos pobūd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paudos, radijo, TV, interneto 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4382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09:45:38Z</dcterms:created>
  <dc:creator>Vygintas Gontis</dc:creator>
  <dc:description/>
  <dc:language>en-US</dc:language>
  <cp:lastModifiedBy>Mykolas Karciauskas</cp:lastModifiedBy>
  <dcterms:modified xsi:type="dcterms:W3CDTF">2005-04-28T08:22:37Z</dcterms:modified>
  <cp:revision>78</cp:revision>
  <dc:subject/>
  <dc:title>Fondo veiklos diagramos 2002 metais</dc:title>
</cp:coreProperties>
</file>